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99A-0D80-4390-9263-B3B36A4A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EE3-D9FB-4D7C-9474-D7C1F08B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CB3-3731-45C1-8F1B-F52B839B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D13-1D47-4311-B5EB-E045925B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A07-8903-4EEA-8EB6-C067D479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E0D-1222-42EE-94ED-A3EDAE8C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FE2-8272-40C1-9730-B3988994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204-1161-47F8-84E5-C154AC58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793-D47C-49F0-9FFA-9F8D08DD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87B-7C5E-437D-AE2A-FAB3FE5C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AAA-80B5-49D1-AC84-3804DE44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229F-1623-492A-9597-D7A72507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AB16-6BDE-4EF4-B1BC-17E051703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2.3    Simplifying Variable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13372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 number, a variable or the product or quotient of a number and a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3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8288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e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4290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 number with no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00200" y="3886200"/>
            <a:ext cx="5715000" cy="2701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90920" y="4114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9144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Objective 1: Identifying Parts of a Variable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69600" y="30481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3352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 number in front of th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828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p.78-79 #18-40 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3809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Quiz tomorrow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609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ik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8360" y="10666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ave the exact sa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0574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You simplify a variable express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590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ombining lik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2767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ductive reas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8098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aching a conclusion based on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762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8305920" cy="2436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1460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2743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- 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911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609480"/>
            <a:ext cx="54864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: 9 + 4f + 3 + 2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* Circle like terms, including the sign that is to the left of them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1600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4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+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2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2362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6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2286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 Combine them using the rules for adding and subtracting integ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429000"/>
            <a:ext cx="32763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: 2b + b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457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b +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5257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Objective 2: Simplifying Variable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 the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143000"/>
            <a:ext cx="4343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coefficients, the like terms, and the constant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x + y – 2x 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0481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implify:  8 + 3w + 6 + 4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191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implify  5t + t –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19810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x + y 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3429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w +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572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t -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198108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: (7 – 3x)5 + 2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28954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5(7)  5(-3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352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– 15x + 2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5680" y="3809880"/>
            <a:ext cx="168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– 15x + 2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441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+ 5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2895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is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380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ombine lik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02920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(2x – 4)               -2(3x + 4)                  -3(4y –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6019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x -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6019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6x -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6019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12y +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69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828800" y="7621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2, 4     2s, 4s    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0666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-4    none    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4479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9, 2, -2, 1     9m, -2m    2r, r     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22440" y="1407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24382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7a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5812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3581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-13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3581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724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y + 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48006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x 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08240" y="5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9436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905120"/>
            <a:ext cx="88394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533520"/>
            <a:ext cx="72392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a variable expression using only the terms lis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Leave room on the white board to simplify your ans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s: -4, 6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: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: 2, 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029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Simplify your answe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Quiz 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1:27:07Z</dcterms:created>
  <dc:creator>Susannah Graham</dc:creator>
  <dc:description/>
  <dc:language>en-US</dc:language>
  <cp:lastModifiedBy>grahams</cp:lastModifiedBy>
  <dcterms:modified xsi:type="dcterms:W3CDTF">2011-10-26T13:38:48Z</dcterms:modified>
  <cp:revision>19</cp:revision>
  <dc:subject/>
  <dc:title>Slide 1</dc:title>
</cp:coreProperties>
</file>